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237-CCAD-423D-A5E2-9416D755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2CB-8302-4AD0-8B06-BA2973FE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89C-BC6A-4D10-BE15-EF3AA44C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4A9-EF98-47E5-A467-7D4DF0AF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25BB-54FA-49E1-A21A-B280D65D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849D-333A-4D7D-B669-30DD56E9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2243-4587-4B79-8DE0-5D429D1D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523C-624F-4F54-86E9-F2C9A277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B24F-EAD7-4FE9-9107-59AEA6F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FB16-99CD-4894-BACE-98009641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1582-BDEE-4341-B580-B65F0A4D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B67-9625-4BA4-94AC-B4A11B06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07E3-A57D-454D-878A-8E2FEE0D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1290-1484-4D12-BD91-B2F735B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B2AE-6C81-4C79-8D4D-926C415F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1895-0457-40A9-AC9D-03E21093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1F2A-9CAC-46C7-88B2-D61E9CAF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14B-AEE9-4494-AD43-B62417FC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A5D-47F6-4FF8-8B91-FDE242FB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991-0732-4B28-B0B9-E12A08B6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CA6-C1E3-436A-83E5-5384BB1C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594-C7ED-4F3E-9EF7-0110413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569-893B-4E4F-B5D2-F913E166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402-9864-4A4D-B2C4-219C41E6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9F43-D88A-4B5C-8B90-30672773C0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3BDF-4BA2-4BDC-A741-F28E82634D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НЕТРАДИЦИОННЫЕ СПОСОБЫ РИСОВАНИЯ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ранов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удентка 636 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338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опологающий вопрос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Что такое нетрадиционное рисова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блем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Какие способы нетрадиционного рисования существую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Как использовать их в работе с деть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 какой возрастной групп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Цель проект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Формирование интереса у студентов колледжа к использованию нетрадиционных способов рисования в практической деятельности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96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и проект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Формировать представления у студентов о нетрадиционных способах рис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оказать практическое значение использования нетрадиционных способов рис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аучить студентов использовать нетрадиционные способы рисования в своей практической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емы исследований участников проекта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жно ли рисовать поролон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жно ли рисовать картошк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жно ли рисовать мятой бумаг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жно ли рисовать мыльными пузыря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жно ли рисовать зубной щеткой?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боты, созданные студентам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укле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комендации для род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рты последовательности рис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нспекты занят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улировки творческих заданий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03640" y="836640"/>
            <a:ext cx="20671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лан работ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нетрадиционное рисование? значение нетрадиционного рисования (1-2 уро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Знакомство с нетрадиционными способами рисования в практической деятельности (8 уро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Работа студентов над творческими проектами (4 уро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Защита творческих проектов (2 уро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Посетите наш курс по нетрадиционным способам рисования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А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жд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58920" y="3500280"/>
            <a:ext cx="3025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9:02:57Z</dcterms:created>
  <dc:creator>Студент</dc:creator>
  <dc:description/>
  <dc:language>en-US</dc:language>
  <cp:lastModifiedBy>Serg</cp:lastModifiedBy>
  <dcterms:modified xsi:type="dcterms:W3CDTF">2009-06-08T12:46:34Z</dcterms:modified>
  <cp:revision>7</cp:revision>
  <dc:subject/>
  <dc:title>НЕТРАДИЦИОННЫЕ СПОСОБЫ РИСОВАНИЯ</dc:title>
</cp:coreProperties>
</file>